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5659-5788-4CA4-A798-C04478853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EAD2-A229-486D-932F-74ECE338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96EA-0292-48C7-8018-7263BC05D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9EA7-EE99-458C-BC2D-DB62E6370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B417-65E2-4A49-9975-41EBBD6D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3C42-AD25-4FD6-ABB6-FA4B0552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17B3-6923-4800-ACE3-7391FDD3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1232-5C4B-470E-8D7C-2D55B6FC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7255-CDAB-45DF-B580-4E8E8259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B930-F46F-48B9-9CF5-C44CF4A4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FA76-7CB7-442A-8E63-A48A3DC4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3F6C-84F1-4DF0-8CB0-D3D00BAF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17AE-C55E-43B3-B118-087B6A171A7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Propagación del calor por conve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part"/>
          <p:cNvPicPr/>
          <p:nvPr/>
        </p:nvPicPr>
        <p:blipFill>
          <a:blip r:embed="rId1"/>
          <a:stretch/>
        </p:blipFill>
        <p:spPr>
          <a:xfrm>
            <a:off x="900000" y="1268280"/>
            <a:ext cx="3240360" cy="25941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1476360" y="4797360"/>
            <a:ext cx="633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partículas de fluido son las que se desplazan. Tanto en líquidos como en gases, las porciones más calientes ascienden y las más frías descienden hacia la fuente de calor. Así se acaba calentando todo el fluido (agua en la olla o aire en una habitación caldeada con calefacción cent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KA-5911"/>
          <p:cNvPicPr/>
          <p:nvPr/>
        </p:nvPicPr>
        <p:blipFill>
          <a:blip r:embed="rId2"/>
          <a:stretch/>
        </p:blipFill>
        <p:spPr>
          <a:xfrm>
            <a:off x="4572000" y="1916280"/>
            <a:ext cx="3173400" cy="2284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3">
            <a:lum bright="36000"/>
          </a:blip>
          <a:stretch/>
        </p:blipFill>
        <p:spPr>
          <a:xfrm>
            <a:off x="4716360" y="765000"/>
            <a:ext cx="266544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20070924klpcnafyq_203"/>
          <p:cNvPicPr/>
          <p:nvPr/>
        </p:nvPicPr>
        <p:blipFill>
          <a:blip r:embed="rId1"/>
          <a:stretch/>
        </p:blipFill>
        <p:spPr>
          <a:xfrm>
            <a:off x="826920" y="620640"/>
            <a:ext cx="5910480" cy="30574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1"/>
          <p:cNvSpPr/>
          <p:nvPr/>
        </p:nvSpPr>
        <p:spPr>
          <a:xfrm>
            <a:off x="2195640" y="3213000"/>
            <a:ext cx="5905440" cy="32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calor se propaga por un sólido sin que haya desplazamiento de las partículas. Solo un movimiento de vibración que se va transmitiendo a las partículas vecinas hasta calentarse todo el cuer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anto mejor conductor sea el sólido (p. ej. un metal), más fácilmente se ponen en vibración las partícul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gunos materiales, como los metales, conducen bien el calor y se dice que son buenos conduct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materiales que conducen mal el calor se llaman aisla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2195640" y="2205000"/>
            <a:ext cx="64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opagación del calor por con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042920" y="4005360"/>
            <a:ext cx="677880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pagación del calor por radi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19"/>
          <p:cNvGraphicFramePr/>
          <p:nvPr/>
        </p:nvGraphicFramePr>
        <p:xfrm>
          <a:off x="971640" y="981000"/>
          <a:ext cx="432432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981000"/>
                    <a:ext cx="432432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23"/>
          <p:cNvSpPr/>
          <p:nvPr/>
        </p:nvSpPr>
        <p:spPr>
          <a:xfrm>
            <a:off x="1332000" y="4581360"/>
            <a:ext cx="61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este caso lo que se propaga es una radiación infrarroja (onda electromagnética) que no necesita medio de propagación, pudiendo transmitirse por el vací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5" descr="estufa-de-cuarzo-de-1500-w-con-montaje-para-pared-hq"/>
          <p:cNvPicPr/>
          <p:nvPr/>
        </p:nvPicPr>
        <p:blipFill>
          <a:blip r:embed="rId3"/>
          <a:stretch/>
        </p:blipFill>
        <p:spPr>
          <a:xfrm>
            <a:off x="5573880" y="1600200"/>
            <a:ext cx="21859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stintos modos de propagación del ca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transmisic3b3n-del-calor-conduccion-conveccion-radiacion-1"/>
          <p:cNvPicPr/>
          <p:nvPr/>
        </p:nvPicPr>
        <p:blipFill>
          <a:blip r:embed="rId1"/>
          <a:stretch/>
        </p:blipFill>
        <p:spPr>
          <a:xfrm>
            <a:off x="1714680" y="1709640"/>
            <a:ext cx="57150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12:33:39Z</dcterms:created>
  <dc:creator>Rafael Moreno</dc:creator>
  <dc:description/>
  <dc:language>en-US</dc:language>
  <cp:lastModifiedBy>Profesor</cp:lastModifiedBy>
  <dcterms:modified xsi:type="dcterms:W3CDTF">2013-04-26T08:52:41Z</dcterms:modified>
  <cp:revision>5</cp:revision>
  <dc:subject/>
  <dc:title>Diapositiva 1</dc:title>
</cp:coreProperties>
</file>